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39A3-A218-4E93-9D7C-6305CE586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216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A2FF-5646-4712-8507-D9D61945C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4CD5-0FDC-43A1-AAA9-FCC02FA4C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18B0-8ED4-4E04-BAD3-FD650E85C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E2B4-8C69-44EE-A90D-817F7D6B5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E440-0469-40B1-9D20-2989EE52B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766A-6DED-410D-A431-0CA0A5EFC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2C3D-0B46-4ED2-AB8F-74D5DDC8B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5E56-6B55-4796-A891-AABC559CC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4838-A4E5-4450-A3FF-4FCBFA49C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F545-3DA7-4BCB-9A6B-50E54C03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A6E8-25C9-4389-A23A-C659087FC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1C870-025A-4836-8782-2FBFEE07A8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Nicene Cre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believe in one Go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Father, the Almight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maker of heaven and earth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f all that is, seen and unse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1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believe in one Lor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Jesus Chris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only Son of Go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eternally begotten of the Fathe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God from God, Light from Ligh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2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rue God from true Go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begotten, not mad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f one Being with the Father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rough him all thing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re mad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3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or us and for our sal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e came down from heave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as incarnate of the Holy Spirit and the Virgin 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became truly huma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4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or our sake he was crucifi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under Pontius Pilate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e suffered deat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was buri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n the third day he rose ag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accordan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ith the Scriptures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5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e ascended into heav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is seated at the right h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f the Fat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e will come again in gl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o judge the living and the dea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his kingdom will have no e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6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believe in the Holy Spiri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Lord, the giver of lif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o proceeds from the Fathe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o with the Father and the 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s worshipped and glorifie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o has spok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rough the prophe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7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believe in one holy cathol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apostolic Churc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acknowledge one bapt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or the forgiveness of si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8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look for the resurrec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f the dea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the life of the world to come. 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609588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9 of 9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bbe0e3"/>
                </a:solidFill>
                <a:latin typeface="Arial Narrow"/>
              </a:rPr>
              <a:t>ELLC 19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08:07:06Z</dcterms:created>
  <dc:creator>Anon Anon</dc:creator>
  <dc:description/>
  <dc:language>en-US</dc:language>
  <cp:lastModifiedBy>Anon Anon</cp:lastModifiedBy>
  <dcterms:modified xsi:type="dcterms:W3CDTF">2005-08-16T04:24:38Z</dcterms:modified>
  <cp:revision>26</cp:revision>
  <dc:subject/>
  <dc:title>Nicene Creed</dc:title>
</cp:coreProperties>
</file>